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30C-4572-4CF0-8BF7-D8DD9324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718-88DC-43CE-BD79-75C51179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987-F07D-4F86-BF61-5ED60D38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C2D-021E-4802-91B8-60442ABD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6DF-CCF1-47E7-BC5B-EB689BA5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24A-F909-4405-AFA5-D1F65D3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CD7-CFEC-4FA0-9852-5DADD58B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C5-C55E-411B-BB1F-0C015304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B03-657F-4A5C-AEAC-D237ABF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796-14B6-49D4-BF12-A081C88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EDE-BA4C-4977-8826-0FB231F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3CE-B3E5-47CB-ABEA-52877FBC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327-01D3-45F5-8D88-10431791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arts meg engem, Istenem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Rajtad kívül nincs semmi jóm nekem.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Benned bízom szüntelen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Kezedben az életem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Örökségem nagyon tetszik nek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Áldlak Uram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mert tanáccsal látsz el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Rád nézek én</a:t>
            </a: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és meg nem rendülök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Hisz jobbomon</a:t>
            </a: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és támogatsz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arts meg engem, Istenem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Rajtad kívül nincs semmi jóm nekem.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Benned bízom szüntelen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Kezedben az életem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Örökségem nagyon tetszik nek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Örvendezik a szívem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jjong bennem a lelkem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Feltárod most el</a:t>
            </a: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tem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z élet útjait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Biztonságban lakhatom, gyönyörüség van jobbodon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Lelkemet Te egyedül soha nem hagyo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Áldlak Uram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mert tanáccsal látsz el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Rád nézek én</a:t>
            </a: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és meg nem rendülök,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 Hisz jobbomon</a:t>
            </a: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és támogatsz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Örvendezik a szívem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jjong bennem a lelkem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Feltárod most el</a:t>
            </a: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tem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z élet útjait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Biztonságban lakhatom, gyönyörüség van jobbodon,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Lelkemet Te egyedül soha nem hagyo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9:12:27Z</dcterms:created>
  <dc:creator>Kelédi Géza</dc:creator>
  <dc:description/>
  <dc:language>en-US</dc:language>
  <cp:lastModifiedBy>Baptista Gyülekezet</cp:lastModifiedBy>
  <dcterms:modified xsi:type="dcterms:W3CDTF">2005-12-31T18:35:48Z</dcterms:modified>
  <cp:revision>7</cp:revision>
  <dc:subject/>
  <dc:title>Tarts meg engem, Istenem, Rajtad kívül nincs semmi jóm nekem. Benned bízom szüntelen, Kezedben az életem, Örökségem nagyon tetszik nekem.</dc:title>
</cp:coreProperties>
</file>